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E8D7C-B20C-4EB3-BFEF-76E7406566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AF66C-00AD-4002-9FF4-606F284DBB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7895F-6EE7-4A5B-ABAA-9DD6CB6A4C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9A9EA-024B-43F8-BFA5-7DD2D7DF9E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061E3-DF22-4E35-B596-E282E9637E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4CE07-1B59-4F11-AB83-D122157D3A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9D0B5-918C-42E7-851D-8E6383CC8F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2AB73-2A36-4C09-B8FF-9FC7041665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5DD0D-CED3-44EA-9B23-759B69BB9E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F0798-3FF5-4BA3-90EF-276309B27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16F3D-2D69-4359-93E1-32398A2614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C3E66-EF09-4688-AF3C-414EA4B9C5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F05B2-1B0B-4D85-ADEA-5C8D0973AC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543AB-6A2D-453D-A815-A4722C69DB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1F6AE-1072-424D-958A-69D1898BF9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305B0-B141-4E96-9529-3B9CD08E56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92DB6-FCC8-4010-9E95-6D117AE3E4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948E1-95E7-472A-A089-518C8267EC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80006-47F5-4FC9-84EC-E1FC833A1A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8B39B-1427-4353-93C3-D6DA970742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2061A-0E53-4DFB-B929-8E97DC1CAF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1B36D-4F0C-4082-BB30-38DFCFA091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35131-237D-4FB5-96FE-A137FB14DF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DF3A6-B4F7-4A26-9165-48A2E261B2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6788B-6E40-4D46-A0BB-B7AAB171F4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87289-A8FA-4A1A-BFD7-0C41A0031E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CABA0-88A0-49D7-88F4-C4BFAADB4F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875DD-B7DA-42CE-A09B-1E72ECBBA0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00942-493B-4CEB-9A2D-D6747B2CFC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711DD-05DA-4366-BC8B-35468BBD17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34D7B-EDC4-4979-8EA8-19573466F9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3BE2A-E681-4C7C-94E5-68814B421F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272E9-FEDD-43F0-8E54-6C8C19E09A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6902A-4DD7-46FF-89E2-47AD48B68A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179E6-1AA4-4A67-BC51-CEBC3781B3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796D5-4362-4BEC-A99C-9D32D1E13B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41DD4-CF34-4537-8707-38D5D570BF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2B1A4-BA7F-4473-9DC5-C068ABB244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BBBCF-1C7E-44F4-8874-10805F0585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0004E-4864-40D9-A19D-DCE45D67F6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0D188-32F8-4B89-AD3A-C5F553DEA2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EF310-BED0-42D6-A11A-8D41B12FD5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3C769-3EDF-4B0B-94A2-B56735C30F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072DB-934A-4629-AE45-D2E62EB9EA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89BBB-9F9D-428F-A3E4-68DBFB82BB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2C13E-CB5C-4E96-8EC1-A102B1AA8A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686A3-BBCA-4563-8953-D4A5EE5FF0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0A8CC-4A8E-4A0D-B1A0-10EAA98C68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2B031-D322-40D5-A4D2-6EC86DE48B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9AE07-37C4-446C-B993-850FE7C217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E9FE6-F1F9-4EDB-A1C5-437F15A7C9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E355F-D01D-4097-ABCD-B36D9F608F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5FDDA-C38C-405B-9895-E8451FB93F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136E1-60AE-4DEA-AB72-A323F4E2C9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05819-C77A-43A8-974C-455035FB06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B0D81-D0B8-4411-8690-32A9A32DBA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BD28F-3822-4C50-A344-3B46FC8518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188BB-FF6A-4858-8BD5-EA8F559A7F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A7676-F789-42D0-BAF3-3980184D39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7DEB8-CF22-4887-8320-58331480D5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B1E36-51E9-4E0B-83F1-1910C83CFA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77133-C7B0-40BF-9086-6296BA9F9D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BB201-E0BB-45D9-A205-B09E2BCC15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1AA11-8ABC-484D-A0BB-3A27F8CE53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F2817-5CC0-4460-9A8A-3D26306481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E738D-56C9-4ECE-863E-BC33B00FA8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C2D8E-5B90-411A-95E2-6B00871A7F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07FCC-D02D-4A7A-8945-C5DBCFC5E5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B9449-33F1-472D-BA4A-58EDA4A3E3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7C3C7-3D8F-4140-9A63-BD9C566223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CC9FF-C926-4B46-9C2B-0D31061562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14CCA-D055-43A5-B640-202B5549E7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33710-5752-4EFE-BB1F-D0F69FB8A7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05268-DDC8-4C2A-9980-10FFDFBB63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CB2AD-1CE0-43FC-A357-0487D0C933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6AD74-5281-40D3-BE32-EA2A4DBB05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3CC74-DE7F-45BB-AE85-F669087A04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16076-37B4-45C5-9E3F-477EF6FD36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3773B-9171-4468-8CBA-B2DF72B6B1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FD119-00C0-4468-B0A5-80DCE264DE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33B31-F912-4FC6-815C-F2166DFDD5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27FC6-6C4D-4E44-B892-2E93A64EB1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5D14F-AD4A-412F-9433-318E14723F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662D4-BAC8-4D7C-975E-DA46C4B682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13DC6-F918-43E0-8797-2152E65173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135AE-5321-4C27-B21E-99CA9EA402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100FE-2959-4590-BE69-37387BCFC7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826FB-7612-469B-ADCE-A62603DC78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2768-3FF2-4269-8BA4-9D7A640A6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EF2E-B29E-4C5D-A310-C62BFA393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8F86-4672-4006-A762-B825E4B10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B181-6247-4843-BCB9-F003E3756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B680-7506-4CA9-B47B-785D40210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A75F-67EC-42F7-9B27-75B4C4245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4F26-B4DF-4E72-A9B2-1946FB0F1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20A7-84CA-4DE4-A364-12A4DE726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F75B-7F09-4B69-A071-995648E6B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41F8-6356-4F79-8198-3DEF4D631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62B4-348F-440A-B4BC-0C6FE1425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363D-5639-4FCE-8516-589AF572B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D0F45-C7DA-4A22-933C-26D6128469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Last Updated 2011-09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606D4-1ADD-4ADE-83B3-A49262BE079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0067A-BC57-4D36-8A73-B17A3D25CAB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A6AAF-B62D-40E9-8725-588F49DDE27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C94DA-0786-4249-829B-38471E13F0D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A4C51-E9A0-4C84-B2B6-6EE9BF58388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DE9F2-63F0-41A0-A841-1A6D0740D5F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ADF17-031C-4D29-91F0-D801D8CAF9E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FF268-FBB6-4942-A2D8-7F9DE55F9D7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C8E5C-00A0-4A24-9B66-118A5915C1E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BEB38-C168-4DAF-8938-74B82E42996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Very recen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Run target “deps” to build depend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n run the debug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ote: Programs that require stdin do not work yet (Eclipse does not send E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print data structures using printAny(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35E5C-CE84-4016-A5B8-85C3D691E41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49F9D-C96E-45F8-B96C-0C963FCC0F5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457200" y="5698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EC6DA-9F05-486E-B8D9-C3E05711C37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up the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5028840" y="1108080"/>
            <a:ext cx="3940560" cy="1182600"/>
            <a:chOff x="5028840" y="1108080"/>
            <a:chExt cx="3940560" cy="1182600"/>
          </a:xfrm>
        </p:grpSpPr>
        <p:sp>
          <p:nvSpPr>
            <p:cNvPr id="167" name="Line 4"/>
            <p:cNvSpPr/>
            <p:nvPr/>
          </p:nvSpPr>
          <p:spPr>
            <a:xfrm flipH="1">
              <a:off x="5028840" y="1941480"/>
              <a:ext cx="152388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5562360" y="1108080"/>
              <a:ext cx="340704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location where you installed OpenModel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174600" y="960480"/>
            <a:ext cx="3406680" cy="1554120"/>
            <a:chOff x="174600" y="960480"/>
            <a:chExt cx="3406680" cy="1554120"/>
          </a:xfrm>
        </p:grpSpPr>
        <p:sp>
          <p:nvSpPr>
            <p:cNvPr id="170" name="Text Box 5"/>
            <p:cNvSpPr/>
            <p:nvPr/>
          </p:nvSpPr>
          <p:spPr>
            <a:xfrm>
              <a:off x="174600" y="960480"/>
              <a:ext cx="34066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roject direc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877760" y="1424160"/>
              <a:ext cx="1475280" cy="109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174600" y="2669760"/>
            <a:ext cx="7750080" cy="662040"/>
            <a:chOff x="174600" y="2669760"/>
            <a:chExt cx="7750080" cy="662040"/>
          </a:xfrm>
        </p:grpSpPr>
        <p:sp>
          <p:nvSpPr>
            <p:cNvPr id="173" name="Text Box 5"/>
            <p:cNvSpPr/>
            <p:nvPr/>
          </p:nvSpPr>
          <p:spPr>
            <a:xfrm>
              <a:off x="174600" y="2872080"/>
              <a:ext cx="77500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GNU debugger (not Microsoft/Apple-provide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2851560" y="2669760"/>
              <a:ext cx="501120" cy="20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71BC6-BB04-4ED0-B1B7-067CBD2C782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CA8FE-AF1B-4DCA-BE8C-F4ADEB408C9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96010-1ACF-478E-A69F-CDBE7E6E5E9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8BC49-161C-49B4-82BD-D0B50C81182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Line 4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4797360"/>
            <a:ext cx="3168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4F66F-4C12-4B45-9327-0C823B92B51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8" name="Line 4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8C18A-F83C-47E5-A135-653030A3567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F78F-F7FC-4F19-8011-85F8B0FB2E3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13850-820D-4884-883D-8ADCDFCB6A3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10" name="Line 5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E27D9-2118-4608-AF62-B81AFE6E02B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90F39-739C-4B4D-882C-5FC95EC3252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(1.0 Draft or 2.0) and the slides if you need additional information during the exerci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73319-D871-4554-9DDF-F1AA560485C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BED7B-C8E5-49F2-A3C8-37C65AA1D22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DF4DB-AA04-4125-9A93-5A5DF16AFD8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96E75-1AAD-4642-A5E5-B1DD33B1EEB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DB7B7-1D40-4AB6-BCA2-46525C855DB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5293A-BBE8-4B3A-8965-E1898061463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7C076-8060-48BC-BEE1-6620DDC62E5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4076B-905A-4490-86B7-F473542AAE5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629F1-51C6-4A0A-A7B5-6B0D62ACC23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3F0E3-6F83-4487-9340-C5B5610729D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FF0FB-E699-410E-A5E7-D14F5F97D07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D9DC9-2B67-4F26-8383-9C113086124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A81A0-10E6-4247-86A5-05F3128CE40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ort  install depends:openmodelica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3FDCA-7FFF-4B4C-97ED-6CF189E95CF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86A26-4C7B-4AA8-8A13-C737D3BA098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02370-2260-4D48-B657-DDDB07571CA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7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MEdit connection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ew version in OpenModelica 1.8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437D6-9F9D-4C39-A958-08FEBC08519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OpenModelica 1.7.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Currently implemented in 194 000 lines of MetaModelica (excl. generated code, external C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19CB8-7ED7-4147-AABA-FF4BA6B5E5A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C228B-D336-422F-B517-AF2639ED1DD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3040" y="765000"/>
          <a:ext cx="8510760" cy="24054120"/>
        </p:xfrm>
        <a:graphic>
          <a:graphicData uri="http://schemas.openxmlformats.org/drawingml/2006/table">
            <a:tbl>
              <a:tblPr/>
              <a:tblGrid>
                <a:gridCol w="3237120"/>
                <a:gridCol w="5273640"/>
              </a:tblGrid>
              <a:tr h="4921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0B80B-108E-4032-85DC-60B3D353BA0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op of the Qt4 GUI library, portable between Windows, Linux, M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B85F9-DCE4-497F-A800-BF29CF6A680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7C0FB-C5F7-4DFF-98BC-14085022C13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117C5-CEA3-4920-B1CE-A972C900D7D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4037C-CF76-4CB1-A6A3-9056E403EE3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4256A-2B02-43B9-82EC-7D9779C66B1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D83EF-7417-4827-A0AF-4F979A4967D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5095B-12F2-4528-A7FB-4DF97C8055E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14FC0-F68F-41FC-B8A6-524C5F711F0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olund</cp:lastModifiedBy>
  <cp:lastPrinted>2001-06-05T14:43:50Z</cp:lastPrinted>
  <dcterms:modified xsi:type="dcterms:W3CDTF">2011-09-17T10:39:23Z</dcterms:modified>
  <cp:revision>69</cp:revision>
  <dc:subject>MetaModelica</dc:subject>
  <dc:title>MetaModelica Tutorial and Exercises</dc:title>
</cp:coreProperties>
</file>